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190-5A8C-46C0-9BF6-87DC4298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108-A8FA-4522-B4A7-BFB12A62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5C1-9588-4A54-946C-15FF019E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9DE-64F6-4088-B479-5F260F78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C5E-6299-4F98-BF67-90A1D724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7BF-8774-47CB-ACE9-AFCB6431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B0D-2E2D-44F3-93D7-6C3566AE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438-FD6A-4D46-871E-DE575275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6A39-39CE-4F30-8FB7-A7723331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4D9-5F9A-4BFE-B211-7841E63D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4DE-E44A-4855-9FE9-51E6DCEC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4D7-5AD3-4897-AFD6-A9D58395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A119-7BA9-46D2-9189-F999FA77A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3695760" cy="318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41148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Virtual Reality Photograp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6920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467840" cy="61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37094" r="0" b="0"/>
          <a:stretch/>
        </p:blipFill>
        <p:spPr>
          <a:xfrm>
            <a:off x="380880" y="1295280"/>
            <a:ext cx="8248680" cy="478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53352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Calligraphy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2866" r="0" b="0"/>
          <a:stretch/>
        </p:blipFill>
        <p:spPr>
          <a:xfrm>
            <a:off x="0" y="228600"/>
            <a:ext cx="891540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1079" r="0" b="0"/>
          <a:stretch/>
        </p:blipFill>
        <p:spPr>
          <a:xfrm>
            <a:off x="457200" y="1066680"/>
            <a:ext cx="7696080" cy="523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9072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hutter Spe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1295280"/>
            <a:ext cx="38862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The higher the shutter speed the more action you st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gher the shutter speed the more light you need for proper expos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is the sensitivity of film or electronic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962520"/>
            <a:ext cx="58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3809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5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809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2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1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7:39:33Z</dcterms:created>
  <dc:creator>Floyd Ausburn</dc:creator>
  <dc:description/>
  <dc:language>en-US</dc:language>
  <cp:lastModifiedBy>Floyd Ausburn</cp:lastModifiedBy>
  <dcterms:modified xsi:type="dcterms:W3CDTF">2007-08-31T20:09:43Z</dcterms:modified>
  <cp:revision>9</cp:revision>
  <dc:subject/>
  <dc:title>Slide 1</dc:title>
</cp:coreProperties>
</file>